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AE2-4E0C-4FFE-9CB6-5092DD50B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G may be sequence in an enh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apter GUI allows selection of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umber of Q20 bp per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enome Sequencing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MOD April 26-28, 2004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m C. Worle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3638" t="0" r="20000" b="0"/>
          <a:stretch/>
        </p:blipFill>
        <p:spPr>
          <a:xfrm>
            <a:off x="228600" y="2666880"/>
            <a:ext cx="17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le Sea Urch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ongylocentrotus purpur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% of reads have premature termination due to poly G sequ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lementary poly C sequence does not have the same effec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se regions will have 1/2 x the average coverag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lymorphic - not inbr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extent of this may be underestimated due to the premature termination abo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3520" y="685800"/>
            <a:ext cx="5562360" cy="5562720"/>
            <a:chOff x="533520" y="685800"/>
            <a:chExt cx="5562360" cy="5562720"/>
          </a:xfrm>
        </p:grpSpPr>
        <p:sp>
          <p:nvSpPr>
            <p:cNvPr id="70" name=""/>
            <p:cNvSpPr/>
            <p:nvPr/>
          </p:nvSpPr>
          <p:spPr>
            <a:xfrm flipV="1">
              <a:off x="761760" y="2514240"/>
              <a:ext cx="151920" cy="685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4040" y="1371240"/>
              <a:ext cx="228240" cy="10666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33520" y="3352320"/>
              <a:ext cx="228240" cy="7621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61760" y="4724280"/>
              <a:ext cx="304560" cy="1447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676160" y="5562360"/>
              <a:ext cx="15192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828440" y="4952520"/>
              <a:ext cx="15228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4760" y="5028840"/>
              <a:ext cx="304560" cy="1143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09680" y="2971440"/>
              <a:ext cx="456840" cy="2057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657240" y="990360"/>
              <a:ext cx="685440" cy="2819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24080" y="2666520"/>
              <a:ext cx="761400" cy="3505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124080" y="3886200"/>
              <a:ext cx="456840" cy="2209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819160" y="5181480"/>
              <a:ext cx="228240" cy="99072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0760" y="3504960"/>
              <a:ext cx="151920" cy="60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19360" y="5562360"/>
              <a:ext cx="151920" cy="533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419000" y="4038120"/>
              <a:ext cx="533160" cy="21337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952880" y="838080"/>
              <a:ext cx="1142640" cy="502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342680" y="5562360"/>
              <a:ext cx="1522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742480" y="5257440"/>
              <a:ext cx="152280" cy="762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523880" y="5562360"/>
              <a:ext cx="75600" cy="5331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438280" y="5486040"/>
              <a:ext cx="151920" cy="685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5280" y="4952880"/>
              <a:ext cx="152280" cy="609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142640" y="2590920"/>
              <a:ext cx="761760" cy="358128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6172200"/>
              <a:ext cx="5562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685800"/>
              <a:ext cx="0" cy="548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1066680"/>
              <a:ext cx="152280" cy="685800"/>
            </a:xfrm>
            <a:prstGeom prst="line">
              <a:avLst/>
            </a:prstGeom>
            <a:ln w="190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6248520"/>
              <a:ext cx="456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98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56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624852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0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1640" y="6248520"/>
              <a:ext cx="1523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 Urchin Polymorphis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Genome Assembl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s for Quality of Assembl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ished sequence comparis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der and Orientation of assembled conti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to other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and correctness of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RNA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 Cost is Everyt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rics for inexpensive bases or rea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Q20 b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rea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measure of success of project being good quality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quence only the AT rich parts of the genom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ss segmental duplications - interesting biolog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cently evolving gene families that highlight species differ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 Due to Changes in Production to Increase Read Lengt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utions - addressed by adjusting insert siz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overlapping mate-pai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kew overlap statistic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ewer reads total (project promised total bp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rtual read length increase - no assembly improvement, since Phrap uses low quality ba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s are easy (commodit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ig assembly is becoming easy (with exception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der and Orientation requires paired end link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nning to chromosomes requires high density m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umanized genomes or Homogenized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e for protein coding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gulatory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cent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x coverage on many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markers, ESTs, mRN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BACs, Fosmid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ttle map inform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 quality assembl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sequences from the correct organis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capture the bulk of the genes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faithfully represent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contigs properly scaffolded to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fects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complete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ning bias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rt contigs, many gap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imeric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orrectly placed or joined conti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s for Gene famil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t Segmental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interesting biology (what makes organisms different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difficult for WGS only and low coverage methods to resolv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 Characterized Genomes - Gene Predi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 novo without evide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ols developed for particular genome may not transfer wel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ittle expressed sequenc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tein sequence from other speci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sembl  must stick to mammals in the fu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, Assembly, Finish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interrupt genes (poor prediction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 contain genes (missing data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uplications (extra gene copie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llapsed regions (missed gene duplication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der and orient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romosome loc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ture Genomes will be Draf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Compon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ish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syntenic breakpoin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gen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ve duplicated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 sequenc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long range scaffold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terat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difficul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ic de novo too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ul Havla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ames Durbi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ui Ch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my E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hen Rich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ue Li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rica Soderg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ingshan L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nry So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in X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ayang J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eks Milosalvjevic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vid A. Wheel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yan Lozad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iran Pasternak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na M. Muzn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ron We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nnon P. Du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an 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istian Buha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rge M. Weinstoc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ichard A. Gibb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ifications at BC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Data Modific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Ensembl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core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est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ig based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ed MySQL database tabl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store feature sequence(cDNA, ESTs, etc...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UCSC data (coordinates and sequenc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UCS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mited data to chromosomes 3 and 1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Fun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GUI allows users to select a chromosome and a rang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trieves features in region from database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grouped based on the Apollo data objects (SeqFeatures and FeatureSets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added to a curation set.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new regions all Ensembl genepredictions are "promoted" to the blue annotation are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previously curated regions a GAME Adaptor is instantiated within the Baylor adaptor to read the existing annotations from the GAMEXML file into a GenericAnnotationSe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nnotations are saved in a GAMEXML file.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ollo adaptor is a java package used to load feature data into Apollo from any database.  This adaptor is tied to Apollo version 1.3.5. 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e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ollo.dataadapter.organism.OrganismAdap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move the binding of gene definition to name adaptors. 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name adapter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u.bcm.hgsc.apollo.dataadapter.organism.HumanNameAdapt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control behavior of the "Show Gene Report" menu item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upgraded to version 1.4.2 because it appears that some packages have been reorganized (or organized)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ists of 95 java class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0 junit test clas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de duplication is minim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loyed using A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ign patterns, Refactoring, and Test Driven Development were use in creating the adaptor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ceedures  to Annotate Hu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fined regions to avoid overl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igned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er regions or trimmed data for some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anning genes annotated in one region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rare cases spanning genes annotated in separate overlap regions with unique annota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otation Repor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bank feature table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ccounts of genes and transcripts 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ssigned regio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nnotator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 count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know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eviously unknown genes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quence variation between genomic sequence and cDNA evidence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Sequence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le Genome Shotgun (WGS)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st, inexpens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od scaffolds with different insert siz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ollapse recent duplications and repea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  + WG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expensive (more shotgun librari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tter resolution of duplications (local assembly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 pools - potentially more efficient ski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expensive shortcut when resources unavailab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reate artifacts in the assembly - no mousified r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3260" r="0" b="0"/>
          <a:stretch/>
        </p:blipFill>
        <p:spPr>
          <a:xfrm>
            <a:off x="514440" y="304920"/>
            <a:ext cx="8020080" cy="620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Annotation Accounting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085" t="18971" r="0" b="3511"/>
          <a:stretch/>
        </p:blipFill>
        <p:spPr>
          <a:xfrm>
            <a:off x="914400" y="1143000"/>
            <a:ext cx="739152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onderful for manual cu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is needed to make it a more portable tool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base for curated annot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wnload for local oper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k a standardized GAMEXM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tal for ease of us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communication of all users and develo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rease time required to "plug into apollo" from any data sourc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l Geno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ploid or Inbred organism (less polymorphism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Map (better higher order scaffolding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GS (several insert size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s (local assemb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ll behaved distribution of clone represen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/mRNA data for QC, Assembly and 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shed sequences for QC, Q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ough coverage (7x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Genomes are not Ide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219320"/>
          <a:ext cx="8686800" cy="506232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  <a:gridCol w="2667240"/>
                <a:gridCol w="22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K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ploi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ut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en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10kb, 50kb, 20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5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 in some 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iased in all cas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AC e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 or not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 3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 1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RN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/one stran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/both stra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Mb - 100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Mb - 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&gt;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ome Characteristics and Resources Available Change the Methods and Outco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2044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w - Bos taur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b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BAC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p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T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81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hesus - Macaca mulat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or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genome seque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resources to impro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neybee - Apis mellifer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T rich regions mis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oking at orthologous insect genes some were poorly represented, and those were more AT ri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entrifugation to separate on base composition and select AT rich fra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as in BAC represent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al deletions that corrupt the assembl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14:48Z</dcterms:created>
  <dc:creator>Kim C. Worley</dc:creator>
  <dc:description/>
  <dc:language>en-US</dc:language>
  <cp:lastModifiedBy>Kim C. Worley</cp:lastModifiedBy>
  <cp:lastPrinted>2004-04-19T18:03:29Z</cp:lastPrinted>
  <dcterms:modified xsi:type="dcterms:W3CDTF">2004-04-26T20:00:23Z</dcterms:modified>
  <cp:revision>873</cp:revision>
  <dc:subject/>
  <dc:title>PowerPoint Presentation  -  Entrez</dc:title>
</cp:coreProperties>
</file>